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BCD9-4FBF-4F7D-9E44-6FA7E8DDC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6891-A749-465C-A40C-F109E9F107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 Artic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ifelphilosoph.blog.de/2011/07/17/hungersnot-deutschland-1149240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as-war-wann.de/1700/1770/177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richard-sautmann.suite101.de/steckruebenwinter-im-ersten-weltkrieg-a625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1A26-BFDE-4C12-8A57-6671D0A8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2C6-1505-4B8E-9368-FD4C551B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154-C00D-4BFB-B1F3-B92056AC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F73A-712C-4736-8E79-3A073F37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810A-8F6C-4E11-AF7B-7E2D495E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DBF3-D9BF-49E9-816F-4D6B4372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B523-5520-4642-8A8E-CB77C930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BB63-6E6C-4B29-A5A4-1BD02DCD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0150-7EA3-401E-A61F-1C575D41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890A-AAC2-4911-BE2F-8C5194AD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2F52-4D76-406D-AA03-A30DC486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2468-0CA7-49E8-89DC-C5F875AE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8C32-B07C-438F-A30F-B903E198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D749-66BC-44D6-9105-4A16648A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EE78-C693-422E-9900-80441EEE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CB8A-99CD-414A-AA66-8DB8E9BD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EE7C-83B1-4843-B7F7-F8D0DA0B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8E1-D954-40B5-8CB4-05C05694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26B4-900D-4D16-9DAE-374AA8C4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D68C-5715-4F83-9022-4A17BE74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4793-3270-4A3B-99D5-4E991DAC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8ED-ABC6-4190-9109-286D6438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C922-F30C-4292-A985-EC8E2125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1191-3DC5-479A-8C3A-DC69B0B8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14D2-CEFE-43BE-A04A-789A715874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4B65-05CE-45C7-9DD9-1F0E9F766F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sf.gov/news/speeches/colwell/rc03_usda/sld014.htm" TargetMode="External"/><Relationship Id="rId2" Type="http://schemas.openxmlformats.org/officeDocument/2006/relationships/hyperlink" Target="http://www.promethea.org/Misc_Compositions/FightingFutureWar/TheEffectsofWa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Economic Issues in German Speaking Countrie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Famin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Rebecca Ki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llust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.nsf.gov/news/speeches/colwell/rc03_usda/sld014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http://www.promethea.org/Misc_Compositions/FightingFutureWar/TheEffectsofWar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germanfood.about.com/b/2011/04/24/did-the-potato-famine-affect-germany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wintersonnenwende.com/scriptorium/english/archives/articles/starvation1919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query.nytimes.com/gst/abstract.html?res=F60E10F93F5D147A93C3A81782D85F4C8185F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query.nytimes.com/mem/archive-free/pdf?res=F60E10F93F5D147A93C3A81782D85F4C8185F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492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urce 1: Did the Potato Famine Affect German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rish potato famine 1846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uring WW1, the potato blight fungu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700,000 Germans dea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pper sulfate could stop the famin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UT copper sulfate was used for military us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gure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otato Fungu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http://www.nsf.gov/news/speeches/colwell/rc03_usda/img014.jpg"/>
          <p:cNvPicPr/>
          <p:nvPr/>
        </p:nvPicPr>
        <p:blipFill>
          <a:blip r:embed="rId1"/>
          <a:stretch/>
        </p:blipFill>
        <p:spPr>
          <a:xfrm>
            <a:off x="3809880" y="2133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Source 2: Hidden Historical Fact: The Allied Attempt to Starve Germany in 1919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ictors of WW1 continued blockade of German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900,000 German were starving to deat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rime of starvation were cover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eople went through garbage for foo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airy cows were taken awa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gure 2: Germany’s Children are Starv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y Käthe Kollwitz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4812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urce 3: No Famine in German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read riot might happen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fugees increas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ups and rebellions against military oligarch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Germany last much longe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ditions were better in rur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gure 3: German cemet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http://www.promethea.org/Misc_Compositions/FightingFutureWar/GermanCemetaryBethune.jpg"/>
          <p:cNvPicPr/>
          <p:nvPr/>
        </p:nvPicPr>
        <p:blipFill>
          <a:blip r:embed="rId1"/>
          <a:stretch/>
        </p:blipFill>
        <p:spPr>
          <a:xfrm>
            <a:off x="1371600" y="1905120"/>
            <a:ext cx="643896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 What crop was affected during both famine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 What was the cause of second famine in Germany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 Potat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 World War 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53:06Z</dcterms:created>
  <dc:creator>SCSadmin</dc:creator>
  <dc:description/>
  <dc:language>en-US</dc:language>
  <cp:lastModifiedBy>SCSadmin</cp:lastModifiedBy>
  <dcterms:modified xsi:type="dcterms:W3CDTF">2012-03-28T16:11:38Z</dcterms:modified>
  <cp:revision>20</cp:revision>
  <dc:subject/>
  <dc:title>Slide 1</dc:title>
</cp:coreProperties>
</file>